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782-DDB6-4266-B505-F2CECBA2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811-8D56-41F4-8A11-2C101BF4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1DB-7798-4F82-BA4D-B5A5E5FE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F78-C6F2-45C6-8DAD-84BE0873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7CD-F6A1-423E-BC2E-FB219273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200-FE28-44F4-B6AD-793DA931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405-7D09-47C9-8F9E-F4047490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7A0-BFE2-4245-8A7D-CB1FFCDD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2F4-510E-4220-A9A0-4F20936B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270-6231-431E-8CA5-AB4C7C43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D4C-D395-4E35-9F8E-D0E72D3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08B-8DB2-402C-90C7-AAE66CC9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31F9-381F-4E21-A0E7-F2C20562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Titl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s is definitely slide 1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Titl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s is definitely slide 1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s looks like slide 2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ut it’s really slide 3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8:03:59Z</dcterms:created>
  <dc:creator>John Wilson</dc:creator>
  <dc:description/>
  <dc:language>en-US</dc:language>
  <cp:lastModifiedBy>John Wilson</cp:lastModifiedBy>
  <dcterms:modified xsi:type="dcterms:W3CDTF">2007-03-23T08:11:44Z</dcterms:modified>
  <cp:revision>4</cp:revision>
  <dc:subject/>
  <dc:title>The Title</dc:title>
</cp:coreProperties>
</file>